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96ED-0523-4D7C-9721-BE60755B4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E00A-4B6A-482C-A786-805CEFFF6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F808-1AA2-4BE8-AFF5-D6FAF046F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7316-FCD3-401F-8085-E2E1F5C5A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BC0D3-BE07-436C-81E9-81407F61E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F59DB-FA0B-4535-A4C0-7E0C1E916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3E201-E089-4B91-A159-4A67B4F09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14CB6-1C53-4756-BFDF-05603F409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A9BDB-9020-47BA-9ABB-429427C98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B5D50-A9A6-4BC9-8350-FFFECB3CD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74529-184A-4041-B1D2-6AB5F9CD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8E12-B7AB-40C8-A544-72F62AAC5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D0A59-DDC4-400C-8EB6-B3EB3336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22242-8D57-41B8-A93C-7CEC1119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065EA-B23A-4A2A-8652-9D4CEC7B5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6248C-3A39-4A8C-B407-861A544E4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9C996-356F-4489-AD5F-5CB1B02F5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ED5E-5257-4C08-ABB0-39F915B36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A644-B8ED-4C2D-BC7F-1FBEF184E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EA9D-FC90-4C81-BC66-BA4D79DFD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F36E-1149-4589-991D-8142F68FB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C2E5-7503-48C0-AA13-F9578A33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F03D-EC13-4794-B560-8EF841FF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F034-D3A6-4BE3-88B6-A1952A5D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BD30A-6C6A-47C5-8E05-1E84B225A01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17113-187E-408E-ABFC-AFBD8CC02E0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68720"/>
            <a:ext cx="770760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Охрана строительной площадки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212840"/>
            <a:ext cx="8121600" cy="50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 автоматизированного формирования фрагментов пояснительной записки ПОС и ППР, описывающих мероприятия, обеспечивающие комплексную охрану строительной площадк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Модуль предоставляет пользователю возможность отобрать, проанализировать, скомпоновать, привязать к конкретному объекту и оформить в виде фрагмента пояснительной записки всю информацию по тематике, связанной с охраной возводимого объект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Приводится перечень возможных угроз безопасности объекта и имущества, находящегося на стройке и даются рекомендации по их устранению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Особое внимание уделено обеспечению антитеррористической защищенности возводимого объект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ыходные документы разрабатываются на основе поставляемых типовых раздел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Имеется возможность создания новых и правки существующих разделов в выходных документа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35568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76440" y="563076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Необходимо отметить требуемые типовые разделы и включить их в разрабатываемый выходной документ.  В иерархическом списке разделов выходного документа имеется возможность создания новых разделов и правки существующих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914400" y="1639800"/>
            <a:ext cx="7637400" cy="343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35568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оррекция раздела выходного докумен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89040" y="397980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правки раздела выходного документа нужно задать его новое наименование и, при необходимости, изменить вышестоящий раздел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792440" y="1739880"/>
            <a:ext cx="5771880" cy="166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Сохранение выходного документа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676440" y="480528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Разработанный выходной документ можно сохранить для дальнейшей работы, предварительно задав его наименовани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1353960" y="1079640"/>
            <a:ext cx="6667560" cy="34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39384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выходного докумен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584280" y="4262400"/>
            <a:ext cx="8121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После завершения ввода всех необходимых данных пользователь может сформировать и открыть в текстовом редакторе фрагмент пояснительной записки, учитывающий особенности охраны строительной площадки в период строительства. С помощью соответствующих флажков в окне настроек печати выходного документа можно указать дополнительные требования к формированию отчет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1647720" y="1231920"/>
            <a:ext cx="6205680" cy="2673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6-04-11T12:28:49Z</dcterms:modified>
  <cp:revision>269</cp:revision>
  <dc:subject/>
  <dc:title>Слайд 1</dc:title>
</cp:coreProperties>
</file>